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6FF-DF77-43D6-85AF-8DFE2879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09F-4C04-454D-A444-ADEE654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763-8221-412B-8D8C-15C16785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822-263D-4F2C-9F92-72F8AA06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C532-14C6-41B5-BF00-403C6ED8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951D-2FF7-404F-837C-48D104C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A9C-3DC4-4316-9483-B1AEBE1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6680-1367-49D5-AF19-AA82BF8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707E-0D25-44C1-BF0C-1B4F81E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87E7-991B-4788-A9D7-FB6CFF1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206-110E-496D-BA2F-CEE674D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F12-68DC-4662-A893-542C2330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A49-2A34-48C7-B6D9-123FFF4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F6E6-869B-4105-A170-59E94AB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205F-CDB6-441A-A93A-63450792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6512-E4C0-4DD4-ACA4-D0340D53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DED-D73A-4DF9-932F-D7F54B5C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26A-51A0-4A2F-9D9A-08AF7AC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1D-A87B-4114-9D94-6C758922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2EB-6330-41C6-9A05-F3BDD023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DA8-05CE-466F-938D-47EBAC1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BA6-D222-49F6-BC28-EF982A8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67D-9AC7-4EEA-AC82-8FD9674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A5E-8571-4636-AA39-E887DF5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248-93EB-49D7-AF3F-F055B74A8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B0C-3D50-454E-92DA-B59BB4E25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storical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to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the connection between the Analysis and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length 2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formatted 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word count on front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sources (my requir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rt of word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ing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p. 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ime to teach research skills (Prep cour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 footnoting early and continually rei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connections with local librari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 of the Histor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latitude in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has not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ight an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HL and 25% 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Hours which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ime to work on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class time to work on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ound by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chools of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increase efficiency of exam preparation (choose a topic that you stu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s an opportunity to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lore something you don’t study in class, but interests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opic VERY n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yce’s ‘Ivy Day  in the Committee Room’ and Parnell’s F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oque Style as Catholic Propagan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mer of Love: Not So Love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ner and the Naz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of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ed a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- “What” is being stu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 - “How” is it being stu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 to be evalu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Length 100-15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d out of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 of Evid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/facts or information that was discovered by the candi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rose or poin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ions left to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500-6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referenced (not part of word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thematically or chrono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2 sources (primary or second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, purpose, values and limitations (OPV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econdary source, evaluation of the author’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 important to the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ce to the investigation of th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400-5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“Evidence” to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topic in context - first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ppropriate different interpre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troduce new evidence - deal only with that which was in the Summary of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inks with Sectio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with sectio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ength 500-600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out of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4:12:07Z</dcterms:created>
  <dc:creator>David Smith User</dc:creator>
  <dc:description/>
  <dc:language>en-US</dc:language>
  <cp:lastModifiedBy>smithdm</cp:lastModifiedBy>
  <dcterms:modified xsi:type="dcterms:W3CDTF">2008-04-29T15:08:06Z</dcterms:modified>
  <cp:revision>32</cp:revision>
  <dc:subject/>
  <dc:title>Internal Assessment  </dc:title>
</cp:coreProperties>
</file>